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9DDE-DE0E-42E1-8624-AE34E8157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429-0A9B-48D8-824A-56E67D3D3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B42F-F6DC-47CD-8682-015E03A5A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C214-C58F-42D3-9C2F-81BA4FDABD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22A-4137-48F3-A5C2-C236FE530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6A5B-3C8E-4C38-B47C-AB69D41CCB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155E-952B-4288-95F9-AF4028FDD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79A-60E9-4930-8A69-429F5A717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2A2-B9E5-46F8-8E3C-EDBD28B7C3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7E6E-E166-4562-9E3E-A03C779B7E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D32F-0533-4DC8-84B7-3AC1AD6812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52E-48C3-4574-B84C-C4DB9D34F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6491-5474-4BFC-9D68-332863D73E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9D34-89C5-4683-AFB7-4114CD45E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EDFE-4326-4531-9A66-D29927D31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2B0A-65C9-4B0A-8AC0-AF165D122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216-C496-446E-BECA-CFF00E8D17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6BC3-D3E5-464C-87F8-704580030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077-1953-4114-8A2D-78AE1DB2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7C5-2668-4EF5-9A21-5505BED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154-5C20-4113-AE50-B4972C62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225-03EB-4939-9ED3-3363D1A6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9FAE-86F5-4A38-9B47-EA881A36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854F9-8CC8-4CFC-B555-B39E6D6D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948B7-8BCA-4F2B-8D21-6327092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D48F2-8975-45A6-91C6-6711686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B585E-44CD-4A40-8FF0-A994A58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06BFD-620B-434A-97C3-B2F5E195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F2351-16EC-43BE-823A-F725EAE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8CD-5A0E-4018-9CDC-44DAA216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F0A26-EA56-4B69-A0EF-649252F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E37F-21C4-48B8-A497-C3779EC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FE136-84D2-49B0-86E9-E40303C8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EAFC-70BD-40E7-9170-3BF5DCA3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998FC-032F-47D1-B3C5-79C317F6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623-4567-4F5A-A372-753478B2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D90-E0A7-4CF5-9EFE-0CC0B18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F83-86C9-4685-8847-A573815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5AB-B550-4140-BDEE-6935123E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AE3-E170-4F8D-BD71-AB71612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A40-691E-4669-8497-8E2CEC54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89A-2702-4293-BC47-4BBDD8A5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C8F4-AA8F-4AC0-A2E5-7D13ED3C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325-5DA2-455F-9C46-66299E73A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9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cc"/>
                </a:solidFill>
                <a:latin typeface="Papyrus"/>
              </a:rPr>
              <a:t>Rules of Integer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multiply negative with a negative you get a pos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-3) x (-2) 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trac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gative – Positive =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ample: (-5) – 3 = -5 + (-3) = 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ill Sans Ultra Bold Condensed"/>
              </a:rPr>
              <a:t>Positive - Negative = Positive + = Positi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133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bcPhonicsOne"/>
              </a:rPr>
              <a:t>Example:</a:t>
            </a:r>
            <a:r>
              <a:rPr b="1" lang="en-US" sz="3200" spc="-1" strike="noStrike">
                <a:solidFill>
                  <a:srgbClr val="ffffff"/>
                </a:solidFill>
                <a:latin typeface="Ravie"/>
              </a:rPr>
              <a:t> 5 m- (-3) = 5 + 3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Negative – Negative = Negative+ Positive =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904760"/>
            <a:ext cx="861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egative – Negative = Negative+ Positive =</a:t>
            </a:r>
            <a:r>
              <a:rPr b="1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ahoma"/>
              </a:rPr>
              <a:t>use the sign of the larger number and subtract (change double negatives to a posi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Gill Sans Ultra Bold Condensed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Ravie"/>
              </a:rPr>
              <a:t>(-5) – (-3) = (-5) + 3 =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Ravie"/>
              </a:rPr>
              <a:t>(-3) – (-5) = (-3) + 5 = 2</a:t>
            </a:r>
            <a:r>
              <a:rPr b="0" lang="en-US" sz="3600" spc="-1" strike="noStrike">
                <a:solidFill>
                  <a:srgbClr val="0000ff"/>
                </a:solidFill>
                <a:latin typeface="Ravi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Cooper Black"/>
              </a:rPr>
              <a:t>Dividing Positives</a:t>
            </a: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66"/>
                </a:solidFill>
                <a:uFillTx/>
                <a:latin typeface="Cooper Black"/>
              </a:rPr>
              <a:t>Positive </a:t>
            </a:r>
            <a:r>
              <a:rPr b="0" lang="en-US" sz="4100" spc="-1" strike="noStrike" u="sng">
                <a:solidFill>
                  <a:srgbClr val="cc0066"/>
                </a:solidFill>
                <a:uFillTx/>
                <a:latin typeface="Cooper Black"/>
                <a:ea typeface="Arial"/>
              </a:rPr>
              <a:t>÷ Positive = Positive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Example: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12 ÷ 3 = 4</a:t>
            </a:r>
            <a:r>
              <a:rPr b="0" lang="en-US" sz="4100" spc="-1" strike="noStrike">
                <a:solidFill>
                  <a:srgbClr val="ffffff"/>
                </a:solidFill>
                <a:latin typeface="Cooper Black"/>
                <a:ea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Rockwell Extra Bold"/>
              </a:rPr>
              <a:t>Dividing Negativ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04920" y="2742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Rockwell Extra Bold"/>
              </a:rPr>
              <a:t>Negative </a:t>
            </a:r>
            <a:r>
              <a:rPr b="0" lang="en-US" sz="3300" spc="-1" strike="noStrike">
                <a:solidFill>
                  <a:srgbClr val="66ccff"/>
                </a:solidFill>
                <a:latin typeface="Rockwell Extra Bold"/>
                <a:ea typeface="Arial"/>
              </a:rPr>
              <a:t>÷ Negative = Positive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ccff"/>
                </a:solidFill>
                <a:latin typeface="Rockwell Extra Bold"/>
                <a:ea typeface="Arial"/>
              </a:rPr>
              <a:t> </a:t>
            </a:r>
            <a:r>
              <a:rPr b="0" lang="en-US" sz="3300" spc="-1" strike="noStrike">
                <a:solidFill>
                  <a:srgbClr val="66ccff"/>
                </a:solidFill>
                <a:latin typeface="Rockwell Extra Bold"/>
                <a:ea typeface="Arial"/>
              </a:rPr>
              <a:t>(-12) ÷ (-3) = 4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Snap ITC"/>
              </a:rPr>
              <a:t>Dividing Negative with a Posit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Snap ITC"/>
              </a:rPr>
              <a:t>Negative </a:t>
            </a:r>
            <a:r>
              <a:rPr b="0" lang="en-US" sz="3600" spc="-1" strike="noStrike">
                <a:solidFill>
                  <a:srgbClr val="00ff00"/>
                </a:solidFill>
                <a:latin typeface="Snap ITC"/>
                <a:ea typeface="Arial"/>
              </a:rPr>
              <a:t>÷ Positive = Negativ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Snap ITC"/>
                <a:ea typeface="Arial"/>
              </a:rPr>
              <a:t>Example: (-12) ÷ 3 = -4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Showcard Gothic"/>
              </a:rPr>
              <a:t>Dividing a Positive with a</a:t>
            </a:r>
            <a:r>
              <a:rPr b="0" lang="en-US" sz="3200" spc="-1" strike="noStrike">
                <a:solidFill>
                  <a:srgbClr val="ff0000"/>
                </a:solidFill>
                <a:latin typeface="Showcard Gothic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Showcard Gothic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</a:rPr>
              <a:t>Positive </a:t>
            </a: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  <a:ea typeface="Arial"/>
              </a:rPr>
              <a:t>÷ Negative = 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Example:</a:t>
            </a: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12 ÷ (-3) = 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ve numbers are numbers that are above ze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 numbers are numbers below ze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Alexandra12_Full"/>
          <p:cNvPicPr/>
          <p:nvPr/>
        </p:nvPicPr>
        <p:blipFill>
          <a:blip r:embed="rId1"/>
          <a:stretch/>
        </p:blipFill>
        <p:spPr>
          <a:xfrm>
            <a:off x="1828800" y="12193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39116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apyrus"/>
              </a:rPr>
              <a:t>Adding Rul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456840"/>
            <a:ext cx="91440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bcPhonicsOne"/>
              </a:rPr>
              <a:t>Positive + Positive = Positive</a:t>
            </a: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phan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bcPhonicsOne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bcPhonicsOn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bcPhonicsOn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ill Sans Ultra Bold Condensed"/>
              </a:rPr>
              <a:t>5 + 4 = 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Ultra Bold Condensed"/>
              </a:rPr>
              <a:t>Negative  + Negative = Neg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(-7) + (-2) = 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 of a negative and a positive numb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sign of the larger number and subtra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7) + 4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+ (-9)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3) + 7 = 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+ (-3) =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ill Sans Ultra Bold Condensed"/>
              </a:rPr>
              <a:t>Multiplying rul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1935703-main_Full"/>
          <p:cNvPicPr/>
          <p:nvPr/>
        </p:nvPicPr>
        <p:blipFill>
          <a:blip r:embed="rId1"/>
          <a:stretch/>
        </p:blipFill>
        <p:spPr>
          <a:xfrm>
            <a:off x="5943600" y="3581280"/>
            <a:ext cx="26431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Comic Sans MS"/>
              </a:rPr>
              <a:t>When you multipl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 multiplied by a positive gets you a posi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 x 2 =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+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you multiply positive with negative you get a negativ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-3) x 2 = 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7:36:27Z</dcterms:created>
  <dc:creator>s-PABARZEGARI</dc:creator>
  <dc:description/>
  <dc:language>en-US</dc:language>
  <cp:lastModifiedBy>Home</cp:lastModifiedBy>
  <dcterms:modified xsi:type="dcterms:W3CDTF">2010-11-14T17:38:54Z</dcterms:modified>
  <cp:revision>7</cp:revision>
  <dc:subject/>
  <dc:title>Rules of integers</dc:title>
</cp:coreProperties>
</file>